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590-E2FE-4F6E-A4D6-1FC381B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6DE-248E-4A98-B32F-670DF4E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9813D-3C8B-4351-8DB3-F192F310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3B06C-7E3E-449D-B5DF-A21659F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8DEE1-28B7-4A06-A581-17D547E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A7C7-CBFD-440C-94B7-B344A3F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E915-73CF-4EE6-BE37-DA9006BE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5A69F-582D-48AB-9E9A-CF1D082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4BEE4-2B6D-4E96-8795-427738BB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14167-7303-4754-86E0-CD2D43DA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9F37-1B9F-4A4F-B73C-682515E3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01D69-63FD-48F6-8087-15C66884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7EF-9573-4CCC-94A2-D6EC61AB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200BD-AD63-41A4-BB61-E9676940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0F052-E1DE-437F-B71A-85A3144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1801F-E221-4B22-B7A0-2119B569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52EA7-4949-4EE7-BE47-DF62919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6EC1C-893B-45D5-A0C3-4526DC5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6C16A-861B-4676-AB82-786488DB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89E6E-592C-4ACD-BE3F-A5093A4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C88C-40DD-4FD5-9CBA-56E27B6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E6C6-BC0D-4C44-9361-D5348DD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7BD5-A224-430B-A24E-237C6AC4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3D1-EBA0-4C0A-AF4C-B7C14BA9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78189-BD14-4B68-A6C5-1CBC142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3550-9A1E-4309-9807-2FE9F310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AFF0-BA99-4B36-96D4-650CA11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1A198-96FB-4653-9976-7B9543E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BCD5-3434-4182-86B4-B052BFC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F283B-127F-469C-ACB7-A014AA9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84BE6-2A88-4E11-B739-3DBF47D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7DD3-5FBC-4782-959B-5AD5955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509A-36DB-4CD0-B172-3A3D1D7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1A3C0-E984-44C5-ADF1-B93CB75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6024-473D-4544-ADAD-2C081ABE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52E22-DE6B-467F-9F18-9C78046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48CD2-7ACC-4BEE-86A6-3BAFF2D1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EE88B-2E1E-4B41-8D04-35B7E202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AFF2D-FC40-4E79-9244-E8C223CF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2E2B-6592-4D52-AA9C-5B2EB2D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55384-DAE1-4786-B65B-4B07CD7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1FF87-600C-49CE-8B0B-D2C7347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8EA3-2596-401A-92BB-0584F81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E2CCB-6B81-4037-BDB4-3E0718C6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BA891-8EA4-47DA-BED2-8D085FD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DD5-469C-4152-9C46-643F746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D2B4D-1919-421A-9289-C0932EB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156C9-5697-4DB0-B872-880A4D6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83F07-310D-45E9-87CC-485D664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80A99-7375-46D9-82DB-0A7C68C0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3EB9-EA30-4305-BBE8-C6B3D12C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901-EED5-4D9B-BD47-6E34650E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DE6-AF19-4BE7-97B1-DE8E336D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7B27-8E0E-41B9-B59B-F4995D6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B97C-0C33-4BD6-B17C-2476D350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3EC8-CA1B-4FC4-B79C-9E89602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3BB-45FB-455C-AC46-8906744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48D-54A5-4E6C-9BED-51ADC05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7FD-466F-40B1-9491-6B1B71D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176E-3EFD-4FA4-8C06-7D97F8F3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6C44-2030-4259-8913-7E07DD55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4B54-B855-4ECA-A1B4-C62B9F64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C0B4-A3E9-431D-8608-EC6E636B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2995-5DE1-46C1-9C82-BB71481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C859-2CA9-4B17-803F-F699BF42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B7CC-FD85-4974-BD69-3A2BC47C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5B5A-F50C-4802-914C-9B00757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7E1-4F3D-4FD0-A78E-8808835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0EDF-E2D5-4A36-BD40-B717F4EC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B4EA-1CE5-4388-A1B9-4985FE3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3AF9-134A-4AD6-9DB0-0DF4B24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1E09-3A14-4C0C-8A48-043130E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554B-AF7E-4085-992E-AA4F6CF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3547-6D3B-4FF4-A602-3C7D7C31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2ECF-5548-4880-9721-CC1846C5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AD59-4843-4053-8BCF-DFDECBD8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AC46-DD48-439C-B956-CE6AAE4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65EA-CADD-4053-8E35-321C24C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AB8-041D-4D16-A028-CCD6A33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EBAF-B5A8-4288-BD4D-01C5EED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5558-690D-4671-B4CA-8CC0886E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E1FA-24CE-4DAD-8006-82CBA32D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E2DF-2689-4265-BCB3-5AEC06B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DF9F-9C51-456F-AA91-FC4C788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DB7C-E21F-4366-B59A-C90DD41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C97A-78DE-4B2F-8E3D-6589EACE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3983-149B-459B-A3AA-A766C14B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9AD3-8EAB-4A13-9E1E-9E48914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299A-989B-4A01-B71D-0BA28BF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409-F3D5-44ED-9661-A11DA51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41BD-B397-450F-887E-E8F74404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500A-5D63-48F0-8A97-13E3D66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6D59-FFA2-43BE-94E3-CE7F9E88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FF88-433C-47A9-A497-B894371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1746-C1FF-4510-A34A-C14142F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0DB1-E838-4551-8F5E-BE6CE70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2E57E-94CF-43DC-B860-EEC2FDE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31C35-B675-494A-907B-BCD6F5F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A927B-E30E-4BDA-BDA1-16E0EEA3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EF24-F588-46B1-8542-9831DE0E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052-A75D-4FB9-8809-0C13AAD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DC5D-B61A-4C3C-9924-08DC4081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E03A-F771-49FF-9BC2-BFB0C4FC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C730-4B25-4829-9C10-82E414A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EF86-BFA6-4506-90A2-1A249046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BC18-1878-4AE8-965F-20EFA43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F618-2F7A-40F3-AC13-79319F3B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118E-BA92-4AC4-83E6-E26CF65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CFE9-1E77-448D-810B-E6BBF03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7064-C4FC-4053-AD42-4CFA967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AF64-D4A5-4668-921F-0275759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F77-45EE-4EFA-9892-98D6A0C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A8E1-7C19-4D33-B1A0-A6D4166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89BE-15A6-48B2-8132-08023F30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EE76-B09E-4800-A33D-F2ABF4A1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7755-F0C2-41B9-932C-7BCD51FE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7F825-0776-4D5A-B991-07A783F6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C855-2772-4E8A-BC53-51A6553E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5FF0-E9DF-4513-BD7C-E8F8786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1307-9584-490E-8B89-2B41F550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8219-00AE-4D2F-93F3-9AA41C95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791F0-2AE2-4A68-868A-3F37CF6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FB4-745E-4386-BE54-60DA12C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F3FBC-4770-4289-9899-972CA5F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FB63F-5C23-48F2-A9FE-70777A6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F17C1-B637-40E0-B89D-1E34D8BF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B41F-7E2B-49AD-BB22-B00222D7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AC0B-C5F4-4416-AC63-AF72A85A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D79DB-E060-4972-8FCB-1EEEBC6B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3FE9-6835-465F-85CA-B74F160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6406-60EF-4245-8592-7143955C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7231-F9B9-4E89-9AFE-2DCF21D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8FEDF-2425-47C9-BA83-6B9B1C9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67C-1CC1-48A6-B936-112DDB4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C8B4-ECD8-47A2-B99D-FCB5D0E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7B30-F8B1-45AA-97B9-334FD2A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0EC1-685E-4697-9DB5-CE5B4B4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6CA0-BDC3-405A-B80D-01B9CDC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3FE0-D6DE-48CA-9355-BF73C2D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DB6F0-2C24-4737-96D8-BB684867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8AD40-5DDF-4B61-9EAE-71EBE4AD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E34F-1540-424C-961C-3267D38D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F53F0-AC71-4D64-B236-72E6B64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FDD5F-FEEC-41E5-AE61-55891C1B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797-2789-4001-B7B8-88B7E9D819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079E-DA9C-4577-89A6-F14D14710A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3C8-589C-437D-B1B0-9F912C7595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9D1-0577-43B9-A13D-E66BDCD47C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6CD-6B08-4783-8C5F-052634C80E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6B35-AF7E-42E8-849F-36D7A7DBD6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42C-DD4A-4598-8A90-B0CD76B06B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F18A-D5F9-4233-AF7A-CA5598BB32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FEB-B55A-4FE4-A74C-C550B56EE8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E05-48E5-43D1-9CA3-AFDE426EBB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32B-BFD4-4E79-B2B0-DFBEF727E1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8ED-DDC6-4CAE-B1BA-167AAFE2EB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9 Vstaň, žatva sa už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ťaň, žatva sa už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cuj od svit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nech ťa nezastih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ť zmešk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cuj, kým slnko sv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sa dĺž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r v čase polud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z, že ťa stihnúť 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íľa posle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cuj len, dieťa Bož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áhaj nechuť, l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cuj, kým j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chop sa a neváh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s odmenou ťa č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áci vytr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cuj, kým nezastrie ť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zivý smrt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staň, prilož ruku k die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je spásy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6:04:18Z</dcterms:modified>
  <cp:revision>44</cp:revision>
  <dc:subject/>
  <dc:title>Je veľký náš Pán, on slávy je Kráľ Nech do všetkých strán  spev vrúcnych znie chvál.</dc:title>
</cp:coreProperties>
</file>